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142-096B-4984-BB48-2833625D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0D0-17B2-4A30-B5F8-1A495A2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4B7-27D6-4921-AA93-07159E58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AEC-F273-4381-AF67-453867C1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CE2-CC8C-48AC-A6D2-3E262934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52A-3890-4CE9-A914-4E866D3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7C3-61DA-4A36-AFBA-A299411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6B4-5015-400E-B906-AAF75362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46B-9697-4D9F-9AAB-BD379481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A2A-560F-4101-AC30-DDE8CBE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2BE-24BE-43B0-B741-9CA1138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848-07EA-43E8-929F-12FE862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9A7-30D9-4F78-967D-D09BC204F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lase 802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15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4: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 empiezan tus cl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2d050"/>
                </a:solidFill>
                <a:latin typeface="Arial"/>
              </a:rPr>
              <a:t>L.O: to recall the structure and use of Stem-changing verbs</a:t>
            </a:r>
            <a:r>
              <a:rPr b="0" lang="es-ES_tradnl" sz="2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4876920" y="30481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5"/>
          <p:cNvSpPr/>
          <p:nvPr/>
        </p:nvSpPr>
        <p:spPr>
          <a:xfrm>
            <a:off x="7010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6"/>
          <p:cNvSpPr/>
          <p:nvPr/>
        </p:nvSpPr>
        <p:spPr>
          <a:xfrm flipV="1">
            <a:off x="5867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70866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70102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19520" y="4114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00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266688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2743200" y="6172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739152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72388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1447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73915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5105520" y="2286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jug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12952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4" descr="thumbnail"/>
          <p:cNvPicPr/>
          <p:nvPr/>
        </p:nvPicPr>
        <p:blipFill>
          <a:blip r:embed="rId1"/>
          <a:stretch/>
        </p:blipFill>
        <p:spPr>
          <a:xfrm>
            <a:off x="4267080" y="3200400"/>
            <a:ext cx="2835360" cy="3648240"/>
          </a:xfrm>
          <a:prstGeom prst="rect">
            <a:avLst/>
          </a:prstGeom>
          <a:ln w="0">
            <a:noFill/>
          </a:ln>
        </p:spPr>
      </p:pic>
      <p:sp>
        <p:nvSpPr>
          <p:cNvPr id="60" name="Line 35"/>
          <p:cNvSpPr/>
          <p:nvPr/>
        </p:nvSpPr>
        <p:spPr>
          <a:xfrm>
            <a:off x="48769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22860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H="1">
            <a:off x="419076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 flipH="1" flipV="1">
            <a:off x="3200400" y="4343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 flipH="1">
            <a:off x="3048120" y="50292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0"/>
          <p:cNvSpPr/>
          <p:nvPr/>
        </p:nvSpPr>
        <p:spPr>
          <a:xfrm>
            <a:off x="6095880" y="5334120"/>
            <a:ext cx="38124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1"/>
          <p:cNvSpPr/>
          <p:nvPr/>
        </p:nvSpPr>
        <p:spPr>
          <a:xfrm flipV="1">
            <a:off x="6477120" y="52574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4343400" y="6248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3"/>
          <p:cNvSpPr/>
          <p:nvPr/>
        </p:nvSpPr>
        <p:spPr>
          <a:xfrm flipH="1">
            <a:off x="4647960" y="5943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708660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 flipV="1">
            <a:off x="6324480" y="6172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 flipV="1">
            <a:off x="6705720" y="4038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El equ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429000" y="2362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6324480" y="636480"/>
            <a:ext cx="2667240" cy="1211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6553080" y="16765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6668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5562720" y="55627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562720" y="60199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7391520" y="28954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thumbnail"/>
          <p:cNvPicPr/>
          <p:nvPr/>
        </p:nvPicPr>
        <p:blipFill>
          <a:blip r:embed="rId3"/>
          <a:stretch/>
        </p:blipFill>
        <p:spPr>
          <a:xfrm>
            <a:off x="152280" y="152280"/>
            <a:ext cx="3124440" cy="222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thumbnail"/>
          <p:cNvPicPr/>
          <p:nvPr/>
        </p:nvPicPr>
        <p:blipFill>
          <a:blip r:embed="rId4"/>
          <a:stretch/>
        </p:blipFill>
        <p:spPr>
          <a:xfrm>
            <a:off x="3429000" y="484200"/>
            <a:ext cx="2705040" cy="18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thumbnail"/>
          <p:cNvPicPr/>
          <p:nvPr/>
        </p:nvPicPr>
        <p:blipFill>
          <a:blip r:embed="rId5"/>
          <a:stretch/>
        </p:blipFill>
        <p:spPr>
          <a:xfrm>
            <a:off x="2895480" y="37339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thumbnail"/>
          <p:cNvPicPr/>
          <p:nvPr/>
        </p:nvPicPr>
        <p:blipFill>
          <a:blip r:embed="rId6"/>
          <a:stretch/>
        </p:blipFill>
        <p:spPr>
          <a:xfrm>
            <a:off x="228600" y="3124080"/>
            <a:ext cx="273384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6"/>
          <p:cNvSpPr/>
          <p:nvPr/>
        </p:nvSpPr>
        <p:spPr>
          <a:xfrm>
            <a:off x="533520" y="5638680"/>
            <a:ext cx="2057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57150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enza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3200" y="4038480"/>
            <a:ext cx="167652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61200" y="4449600"/>
            <a:ext cx="165600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755080" y="4876920"/>
            <a:ext cx="179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653080" y="3962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en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652360" y="44197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omen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760080" y="4876920"/>
            <a:ext cx="161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5158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279680" y="4876920"/>
            <a:ext cx="1890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be able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pla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61240" y="1905120"/>
            <a:ext cx="1280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477800" y="2362320"/>
            <a:ext cx="1262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77440" y="2819520"/>
            <a:ext cx="1264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193280" y="19051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1929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031360" y="2743200"/>
            <a:ext cx="1279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668680" y="2819520"/>
            <a:ext cx="1364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447920" y="32767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447920" y="32767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4240" y="4114800"/>
            <a:ext cx="133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526400" y="4572000"/>
            <a:ext cx="1314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4600" y="5029200"/>
            <a:ext cx="1316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345920" y="4114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345200" y="4572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08040" y="4952880"/>
            <a:ext cx="1245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821320" y="5029200"/>
            <a:ext cx="1331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523880" y="5394240"/>
            <a:ext cx="266724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1523880" y="541008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i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04:01Z</dcterms:created>
  <dc:creator>Helen Zumaeta</dc:creator>
  <dc:description/>
  <dc:language>en-US</dc:language>
  <cp:lastModifiedBy>Helen Zumaeta</cp:lastModifiedBy>
  <dcterms:modified xsi:type="dcterms:W3CDTF">2015-10-19T22:43:41Z</dcterms:modified>
  <cp:revision>23</cp:revision>
  <dc:subject/>
  <dc:title>Me llamo _______      Clase 7IM La fecha es el 6 de enero del 2011</dc:title>
</cp:coreProperties>
</file>